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05821-D34A-40BE-9304-A41B76CAA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FB398-C9AC-4349-B3CE-156BA474A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3ACED-2882-4109-8F64-174E85517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A159D-B857-4937-AC79-5F31C54FD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023E2-D17E-42A4-9AE8-F95992715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B1272-C0FC-4CF0-B434-5A26CCEDF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AC37F-642F-435D-9E6F-36BBB42CE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58EF0-F5E1-4448-8379-339CE7EB8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68797-40C0-4AD4-BEBE-40BDF208E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5FF2F-B246-40BD-9767-107274EC9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B325D-D171-4934-B189-2D032E13B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22C1-F1B1-4347-A7B1-2A7C6B1BC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C3BB7-658A-4A7F-816A-36640ED5F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6F00D-E9F4-4593-BCE7-82465F205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CAAE0-3E35-467C-96BF-170333A24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8C58D-434D-4895-AE0D-0A38BC359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5388A-D4F6-406A-8B9E-7B92280A5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13266-89FE-4B53-9F18-FD44FB96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D123E-41A5-4C7A-B57D-520D2556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D64E9-7492-4A7F-87CE-390B51C4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A5A65-4A26-458D-93DC-CB03D1CA3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6CC61-0133-48B8-AC35-89F55B05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7D1D-C2EC-4407-87FF-050465A6E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C511E-6A69-48AB-8084-C3E3971CA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4D00-DF31-4203-883C-CD8A2461626C}"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F24B-3E87-4BC7-B703-99B0602BC65F}"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http://images.google.com/imgres?imgurl=http://www.jbondy.com/portfolio2/pictures/rumpelstiltskin.jpg&amp;imgrefurl=http://www.jbondy.com/portfolio2/pictures/rumpelstiltskin.html&amp;usg=__HLpEGKn3cvXkXpe1AJUCBnALzz4=&amp;h=420&amp;w=640&amp;sz=191&amp;hl=en&amp;start=12&amp;um=1&amp;tbnid=VzOvsST8wckctM:&amp;tbnh=90&amp;tbnw=137&amp;prev=/images%3Fq%3Drumpelstiltskin%26hl%3Den%26safe%3Dactive%26rls%3Dcom.microsoft:*%26sa%3DN%26um%3D1" TargetMode="External"/><Relationship Id="rId4" Type="http://schemas.openxmlformats.org/officeDocument/2006/relationships/image" Target="../media/image5.jpeg"/><Relationship Id="rId5" Type="http://schemas.openxmlformats.org/officeDocument/2006/relationships/hyperlink" Target="http://images.google.com/imgres?imgurl=http://storynory.com/wp-content/uploads/2007/03/rumpelstiltskin02800.jpg&amp;imgrefurl=http://storynory.com/2007/03/18/rumpelstiltskin/&amp;usg=__gdXDSO61utG3_bftS3BqUDzqfz4=&amp;h=578&amp;w=800&amp;sz=61&amp;hl=en&amp;start=35&amp;um=1&amp;tbnid=6Z0n7pT9JvN9fM:&amp;tbnh=103&amp;tbnw=143&amp;prev=/images%3Fq%3Drumpelstiltskin%26ndsp%3D20%26hl%3Den%26safe%3Dactive%26rls%3Dcom.microsoft:*%26sa%3DN%26start%3D20%26um%3D1" TargetMode="External"/><Relationship Id="rId6" Type="http://schemas.openxmlformats.org/officeDocument/2006/relationships/image" Target="../media/image6.jpeg"/><Relationship Id="rId7" Type="http://schemas.openxmlformats.org/officeDocument/2006/relationships/hyperlink" Target="http://images.google.com/imgres?imgurl=http://www.toontracker.net/graphics/rumpelstiltskin.jpg&amp;imgrefurl=http://www.toontracker.com/melotoons/melotoon.htm&amp;usg=__i-TgTkKedFlFKK4wBjuc7hOk_3s=&amp;h=240&amp;w=320&amp;sz=17&amp;hl=en&amp;start=64&amp;um=1&amp;tbnid=kQ3iUUtzEw0qIM:&amp;tbnh=89&amp;tbnw=118&amp;prev=/images%3Fq%3Drumpelstiltskin%26ndsp%3D20%26hl%3Den%26safe%3Dactive%26rls%3Dcom.microsoft:*%26sa%3DN%26start%3D60%26um%3D1"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xml"/><Relationship Id="rId3" Type="http://schemas.openxmlformats.org/officeDocument/2006/relationships/hyperlink" Target="http://images.google.com/imgres?imgurl=http://mrcsblog.com/files/2009/11/smartkiddies1.jpg&amp;imgrefurl=http://mrcsblog.com/2009/11/03/smartkiddies-activities/&amp;usg=__QI6LxbUaI00SLwEGknGndkLd6U4=&amp;h=195&amp;w=640&amp;sz=14&amp;hl=en&amp;start=3&amp;um=1&amp;tbnid=ExbzuCacRPqDyM:&amp;tbnh=42&amp;tbnw=137&amp;prev=/images%3Fq%3Dsmartkiddies%26hl%3Den%26safe%3Dactive%26rls%3Dcom.microsoft:*%26um%3D1"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hyperlink" Target="http://www.kfc.com/default.asp" TargetMode="External"/><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390600" y="2066760"/>
            <a:ext cx="8674200" cy="2151360"/>
          </a:xfrm>
          <a:prstGeom prst="rect">
            <a:avLst/>
          </a:prstGeom>
          <a:ln w="0">
            <a:noFill/>
          </a:ln>
        </p:spPr>
      </p:pic>
      <p:sp>
        <p:nvSpPr>
          <p:cNvPr id="83" name="PlaceHolder 1"/>
          <p:cNvSpPr>
            <a:spLocks noGrp="1"/>
          </p:cNvSpPr>
          <p:nvPr>
            <p:ph type="subTitle"/>
          </p:nvPr>
        </p:nvSpPr>
        <p:spPr>
          <a:xfrm>
            <a:off x="1371600" y="4000680"/>
            <a:ext cx="6400800" cy="20001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2" action="ppaction://hlinksldjump"/>
              </a:rPr>
              <a:t>Character Profil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3" action="ppaction://hlinksldjump"/>
              </a:rPr>
              <a:t>Franchises</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4" action="ppaction://hlinksldjump"/>
              </a:rPr>
              <a:t>MATH</a:t>
            </a:r>
            <a:r>
              <a:rPr b="0" lang="en-AU" sz="2800" spc="-1" strike="noStrike">
                <a:solidFill>
                  <a:srgbClr val="ffffff"/>
                </a:solidFill>
                <a:latin typeface="Book Antiqua"/>
              </a:rPr>
              <a:t>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5" action="ppaction://hlinksldjump"/>
              </a:rPr>
              <a:t>Story</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4" name="Picture 1" descr="d:\Users\KyeH.STAWELL-PS\Desktop\mr.awsm!\mr.awsm -stcottish version!.jpg"/>
          <p:cNvPicPr/>
          <p:nvPr/>
        </p:nvPicPr>
        <p:blipFill>
          <a:blip r:embed="rId6"/>
          <a:stretch/>
        </p:blipFill>
        <p:spPr>
          <a:xfrm>
            <a:off x="2857680" y="0"/>
            <a:ext cx="3047760" cy="23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14360" y="1365120"/>
            <a:ext cx="8242200" cy="2054520"/>
          </a:xfrm>
          <a:prstGeom prst="rect">
            <a:avLst/>
          </a:prstGeom>
          <a:ln w="0">
            <a:noFill/>
          </a:ln>
        </p:spPr>
      </p:pic>
      <p:sp>
        <p:nvSpPr>
          <p:cNvPr id="86" name="PlaceHolder 1"/>
          <p:cNvSpPr>
            <a:spLocks noGrp="1"/>
          </p:cNvSpPr>
          <p:nvPr>
            <p:ph type="subTitle"/>
          </p:nvPr>
        </p:nvSpPr>
        <p:spPr>
          <a:xfrm>
            <a:off x="1371600" y="3332160"/>
            <a:ext cx="6400800" cy="35258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Main Characters: Rumpelstiltskin, Millers daughter , King, Mille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Conflict: NONE</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Where: England</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Good Deed: Rumpelstiltskin  Helps the Millers daughte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Bad Deed: He wants the Queens baby.</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Magic: Rumpelstiltskin turns straw to gold! </a:t>
            </a:r>
            <a:r>
              <a:rPr b="0" lang="en-AU" sz="2000" spc="-1" strike="noStrike" u="sng">
                <a:solidFill>
                  <a:srgbClr val="410082"/>
                </a:solidFill>
                <a:uFillTx/>
                <a:latin typeface="Book Antiqua"/>
                <a:hlinkClick r:id="rId2" action="ppaction://hlinksldjump"/>
              </a:rPr>
              <a:t>BACK</a:t>
            </a:r>
            <a:endParaRPr b="0" lang="en-US" sz="20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 </a:t>
            </a:r>
            <a:endParaRPr b="0" lang="en-US" sz="2800" spc="-1" strike="noStrike">
              <a:solidFill>
                <a:srgbClr val="ffffff"/>
              </a:solidFill>
              <a:latin typeface="Book Antiqua"/>
            </a:endParaRPr>
          </a:p>
        </p:txBody>
      </p:sp>
      <p:pic>
        <p:nvPicPr>
          <p:cNvPr id="87" name="Picture 2" descr="http://t3.gstatic.com/images?q=tbn:VzOvsST8wckctM:http://www.jbondy.com/portfolio2/pictures/rumpelstiltskin.jpg">
            <a:hlinkClick r:id="rId3"/>
          </p:cNvPr>
          <p:cNvPicPr/>
          <p:nvPr/>
        </p:nvPicPr>
        <p:blipFill>
          <a:blip r:embed="rId4"/>
          <a:stretch/>
        </p:blipFill>
        <p:spPr>
          <a:xfrm>
            <a:off x="0" y="90360"/>
            <a:ext cx="2714760" cy="2195640"/>
          </a:xfrm>
          <a:prstGeom prst="rect">
            <a:avLst/>
          </a:prstGeom>
          <a:ln w="0">
            <a:noFill/>
          </a:ln>
        </p:spPr>
      </p:pic>
      <p:pic>
        <p:nvPicPr>
          <p:cNvPr id="88" name="Picture 4" descr="http://t3.gstatic.com/images?q=tbn:6Z0n7pT9JvN9fM:http://storynory.com/wp-content/uploads/2007/03/rumpelstiltskin02800.jpg">
            <a:hlinkClick r:id="rId5"/>
          </p:cNvPr>
          <p:cNvPicPr/>
          <p:nvPr/>
        </p:nvPicPr>
        <p:blipFill>
          <a:blip r:embed="rId6"/>
          <a:stretch/>
        </p:blipFill>
        <p:spPr>
          <a:xfrm>
            <a:off x="6357960" y="0"/>
            <a:ext cx="2786040" cy="2214720"/>
          </a:xfrm>
          <a:prstGeom prst="rect">
            <a:avLst/>
          </a:prstGeom>
          <a:ln w="0">
            <a:noFill/>
          </a:ln>
        </p:spPr>
      </p:pic>
      <p:pic>
        <p:nvPicPr>
          <p:cNvPr id="89" name="Picture 6" descr="http://t2.gstatic.com/images?q=tbn:kQ3iUUtzEw0qIM:http://www.toontracker.net/graphics/rumpelstiltskin.jpg">
            <a:hlinkClick r:id="rId7"/>
          </p:cNvPr>
          <p:cNvPicPr/>
          <p:nvPr/>
        </p:nvPicPr>
        <p:blipFill>
          <a:blip r:embed="rId8"/>
          <a:stretch/>
        </p:blipFill>
        <p:spPr>
          <a:xfrm>
            <a:off x="0" y="4929120"/>
            <a:ext cx="1428840" cy="192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14360" y="1365120"/>
            <a:ext cx="8242200" cy="2116440"/>
          </a:xfrm>
          <a:prstGeom prst="rect">
            <a:avLst/>
          </a:prstGeom>
          <a:ln w="0">
            <a:noFill/>
          </a:ln>
        </p:spPr>
      </p:pic>
      <p:sp>
        <p:nvSpPr>
          <p:cNvPr id="91" name="PlaceHolder 1"/>
          <p:cNvSpPr>
            <a:spLocks noGrp="1"/>
          </p:cNvSpPr>
          <p:nvPr>
            <p:ph type="subTitle"/>
          </p:nvPr>
        </p:nvSpPr>
        <p:spPr>
          <a:xfrm>
            <a:off x="1371600" y="3332160"/>
            <a:ext cx="6400800" cy="3525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Smart kiddies is a fun and exciting website with heaps of games and activities. Earn points by winning matches and getting sums right.</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In smart kiddies every one has their own avatar which  they can edit which</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things fresh and exciting.  Smart kiddies is a great site</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that the whole family will enjoy!    </a:t>
            </a:r>
            <a:r>
              <a:rPr b="0" lang="en-AU" sz="2400" spc="-1" strike="noStrike" u="sng">
                <a:solidFill>
                  <a:srgbClr val="410082"/>
                </a:solidFill>
                <a:uFillTx/>
                <a:latin typeface="Book Antiqua"/>
                <a:hlinkClick r:id="rId2" action="ppaction://hlinksldjump"/>
              </a:rPr>
              <a:t>BACK</a:t>
            </a:r>
            <a:endParaRPr b="0" lang="en-US" sz="2400" spc="-1" strike="noStrike">
              <a:solidFill>
                <a:srgbClr val="ffffff"/>
              </a:solidFill>
              <a:latin typeface="Book Antiqua"/>
            </a:endParaRPr>
          </a:p>
        </p:txBody>
      </p:sp>
      <p:pic>
        <p:nvPicPr>
          <p:cNvPr id="92" name="Picture 2" descr="http://t3.gstatic.com/images?q=tbn:ExbzuCacRPqDyM:http://mrcsblog.com/files/2009/11/smartkiddies1.jpg">
            <a:hlinkClick r:id="rId3"/>
          </p:cNvPr>
          <p:cNvPicPr/>
          <p:nvPr/>
        </p:nvPicPr>
        <p:blipFill>
          <a:blip r:embed="rId4"/>
          <a:stretch/>
        </p:blipFill>
        <p:spPr>
          <a:xfrm>
            <a:off x="2571840" y="428760"/>
            <a:ext cx="4143240" cy="16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14360" y="1706400"/>
            <a:ext cx="8242200" cy="1713240"/>
          </a:xfrm>
          <a:prstGeom prst="rect">
            <a:avLst/>
          </a:prstGeom>
          <a:ln w="0">
            <a:noFill/>
          </a:ln>
        </p:spPr>
      </p:pic>
      <p:sp>
        <p:nvSpPr>
          <p:cNvPr id="94" name="PlaceHolder 1"/>
          <p:cNvSpPr>
            <a:spLocks noGrp="1"/>
          </p:cNvSpPr>
          <p:nvPr>
            <p:ph type="subTitle"/>
          </p:nvPr>
        </p:nvSpPr>
        <p:spPr>
          <a:xfrm>
            <a:off x="1371600" y="3332160"/>
            <a:ext cx="6400800" cy="32400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In 1930 U.S.A Harland Sanders decided to open a restaurant at the front of the gas station he worked at. In 1940 Sanders invented the seven herbs and spices and became COLONEL Harland Sanders. In 1941 Colonel Sanders sold his restaurant to Brands inc. and barley got any money for every bucket sold! KFC  eventually became a big hit and the Colonel got the money he deserved.</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So make the Colonel proud , run ( or drive! ) down to your local KFC store and buy a bucket today!</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410082"/>
                </a:solidFill>
                <a:uFillTx/>
                <a:latin typeface="Book Antiqua"/>
                <a:hlinkClick r:id="rId2" action="ppaction://hlinksldjump"/>
              </a:rPr>
              <a:t>BACK</a:t>
            </a:r>
            <a:endParaRPr b="0" lang="en-US" sz="20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5" name="Picture 2" descr="Home">
            <a:hlinkClick r:id="rId3"/>
          </p:cNvPr>
          <p:cNvPicPr/>
          <p:nvPr/>
        </p:nvPicPr>
        <p:blipFill>
          <a:blip r:embed="rId4"/>
          <a:stretch/>
        </p:blipFill>
        <p:spPr>
          <a:xfrm>
            <a:off x="155520" y="-136440"/>
            <a:ext cx="1981080" cy="162000"/>
          </a:xfrm>
          <a:prstGeom prst="rect">
            <a:avLst/>
          </a:prstGeom>
          <a:ln w="0">
            <a:noFill/>
          </a:ln>
        </p:spPr>
      </p:pic>
      <p:pic>
        <p:nvPicPr>
          <p:cNvPr id="96" name="Picture 4" descr="Home"/>
          <p:cNvPicPr/>
          <p:nvPr/>
        </p:nvPicPr>
        <p:blipFill>
          <a:blip r:embed="rId5"/>
          <a:stretch/>
        </p:blipFill>
        <p:spPr>
          <a:xfrm>
            <a:off x="155520" y="-136440"/>
            <a:ext cx="1981080" cy="162000"/>
          </a:xfrm>
          <a:prstGeom prst="rect">
            <a:avLst/>
          </a:prstGeom>
          <a:ln w="0">
            <a:noFill/>
          </a:ln>
        </p:spPr>
      </p:pic>
      <p:pic>
        <p:nvPicPr>
          <p:cNvPr id="97" name="Picture 6" descr="Home"/>
          <p:cNvPicPr/>
          <p:nvPr/>
        </p:nvPicPr>
        <p:blipFill>
          <a:blip r:embed="rId6"/>
          <a:stretch/>
        </p:blipFill>
        <p:spPr>
          <a:xfrm>
            <a:off x="155520" y="-136440"/>
            <a:ext cx="1981080" cy="162000"/>
          </a:xfrm>
          <a:prstGeom prst="rect">
            <a:avLst/>
          </a:prstGeom>
          <a:ln w="0">
            <a:noFill/>
          </a:ln>
        </p:spPr>
      </p:pic>
      <p:pic>
        <p:nvPicPr>
          <p:cNvPr id="98" name="Picture 8" descr="Home"/>
          <p:cNvPicPr/>
          <p:nvPr/>
        </p:nvPicPr>
        <p:blipFill>
          <a:blip r:embed="rId7"/>
          <a:stretch/>
        </p:blipFill>
        <p:spPr>
          <a:xfrm>
            <a:off x="155520" y="-136440"/>
            <a:ext cx="1981080" cy="162000"/>
          </a:xfrm>
          <a:prstGeom prst="rect">
            <a:avLst/>
          </a:prstGeom>
          <a:ln w="0">
            <a:noFill/>
          </a:ln>
        </p:spPr>
      </p:pic>
      <p:pic>
        <p:nvPicPr>
          <p:cNvPr id="99" name="Picture 12" descr="KFC logo"/>
          <p:cNvPicPr/>
          <p:nvPr/>
        </p:nvPicPr>
        <p:blipFill>
          <a:blip r:embed="rId8"/>
          <a:stretch/>
        </p:blipFill>
        <p:spPr>
          <a:xfrm>
            <a:off x="3357720" y="0"/>
            <a:ext cx="228600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706320" y="-6480"/>
            <a:ext cx="7791480" cy="3468960"/>
          </a:xfrm>
          <a:prstGeom prst="rect">
            <a:avLst/>
          </a:prstGeom>
          <a:ln w="0">
            <a:noFill/>
          </a:ln>
        </p:spPr>
      </p:pic>
      <p:sp>
        <p:nvSpPr>
          <p:cNvPr id="101" name="PlaceHolder 1"/>
          <p:cNvSpPr>
            <a:spLocks noGrp="1"/>
          </p:cNvSpPr>
          <p:nvPr>
            <p:ph type="subTitle"/>
          </p:nvPr>
        </p:nvSpPr>
        <p:spPr>
          <a:xfrm>
            <a:off x="1371600" y="3214800"/>
            <a:ext cx="6400800" cy="364320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Book Antiqua"/>
              </a:rPr>
              <a:t>Name : CHUCK WOOD</a:t>
            </a:r>
            <a:endParaRPr b="0" lang="en-US" sz="20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Age: 12</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Job: Comedian   </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Born in : The U.S.A</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5 Facts: Chuck has always wanted to become a real boy someday.</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s the reason the devil was banished into Hell.</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 has always hated Ted E. Bare and wishes to kill him one day.</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s got his own website.</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s psychic.</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BACK</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 </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02" name="Picture 2" descr="Chuck Wood"/>
          <p:cNvPicPr/>
          <p:nvPr/>
        </p:nvPicPr>
        <p:blipFill>
          <a:blip r:embed="rId2"/>
          <a:stretch/>
        </p:blipFill>
        <p:spPr>
          <a:xfrm>
            <a:off x="2928960" y="0"/>
            <a:ext cx="3500280" cy="24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22:52:19Z</dcterms:created>
  <dc:creator>Education</dc:creator>
  <dc:description/>
  <dc:language>en-US</dc:language>
  <cp:lastModifiedBy>Education</cp:lastModifiedBy>
  <dcterms:modified xsi:type="dcterms:W3CDTF">2009-12-01T22:30:03Z</dcterms:modified>
  <cp:revision>20</cp:revision>
  <dc:subject/>
  <dc:title>Slide 1</dc:title>
</cp:coreProperties>
</file>